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2B2F-02FF-4EB9-94B6-D83D4674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162-5DC2-4B61-8E23-534E2A8D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DCB-0F55-4416-9FB8-205F942D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643-9DAD-4AEB-990C-972624CF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9416-20DD-4CF7-A24B-2A0F8A02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3A6E-A441-4256-A54F-D7685065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54E3-5A72-4712-A6F1-332CB965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9CA4-793F-48FE-B61F-90C2F2CF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8417-2D9C-4C49-9F7C-BD16C2D4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4298-3361-4F5D-AB15-4C0E1B46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42D3-4508-4469-B4FF-B4CCAA1B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291-A841-4632-BCCF-724C334E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8137-15C9-4957-8B5A-A02DA34F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0007-5CE3-49E3-8D2F-E049B304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FA52-6A2D-49D1-9104-13D21BB9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2494-5722-449E-9E8A-D4E93C59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92DD-18B4-4821-A3FF-0C775B53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881-CB14-4A1F-8F95-459CC3F8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5CD-70DA-4EC4-B7F6-B0CEF682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B94-46DB-4F73-9C12-1533330A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B04-8501-4B13-A47D-1E2AEA02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445-7F98-4D37-A50F-C8A29206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881-3BF3-4581-97C9-6672CD19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AB6-7DA8-4E1E-A9C6-FD617D23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F332-21BD-4E38-A6C5-F7851E1AE7E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9628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7D60-2929-48A6-9681-FBC64C8EEE0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2819520"/>
            <a:ext cx="594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CRISS Strategies and the Solar Syste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CRISS STRATEGIES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209680"/>
            <a:ext cx="4572000" cy="44960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666880" y="2438280"/>
          <a:ext cx="372744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438280"/>
                    <a:ext cx="3727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5335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Venn Diagram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362320"/>
            <a:ext cx="6172200" cy="4038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33720" y="2736720"/>
          <a:ext cx="5792760" cy="320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736720"/>
                    <a:ext cx="5792760" cy="32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KWL CHARTS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209680"/>
            <a:ext cx="6248160" cy="4343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897200" y="2362320"/>
          <a:ext cx="5798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2362320"/>
                    <a:ext cx="5798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ookman Old Style"/>
              </a:rPr>
              <a:t>Concept Mapping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2133720"/>
            <a:ext cx="4267440" cy="4495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429000" y="2362320"/>
          <a:ext cx="279396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27939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ookman Old Style"/>
              </a:rPr>
              <a:t>Brain Storming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2057400"/>
            <a:ext cx="5334120" cy="4572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90920" y="2362320"/>
          <a:ext cx="457200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62320"/>
                    <a:ext cx="4572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ookman Old Style"/>
              </a:rPr>
              <a:t>Opinion/Proofs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2057400"/>
            <a:ext cx="3581280" cy="4343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352680" y="2286000"/>
          <a:ext cx="297504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286000"/>
                    <a:ext cx="2975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ookman Old Style"/>
              </a:rPr>
              <a:t>Our Solar System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971800" y="312372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tiona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ronautics an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a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dministrat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676520" y="2209680"/>
            <a:ext cx="4151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6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hank You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562720" y="2819520"/>
            <a:ext cx="2795400" cy="3193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905120" y="380988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Mark, David, Rose, Thomasina, and T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03:38:36Z</dcterms:created>
  <dc:creator>J. Stilwell Middle School</dc:creator>
  <dc:description/>
  <dc:language>en-US</dc:language>
  <cp:lastModifiedBy>ANDREW ROBINSON</cp:lastModifiedBy>
  <dcterms:modified xsi:type="dcterms:W3CDTF">1999-05-21T19:38:22Z</dcterms:modified>
  <cp:revision>2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unf.edu/coehs/trda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AER\solar2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